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509-5BF1-4C88-9574-DD2CBB7E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825-E6FD-4AF6-9439-C7C2D7EF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46F-66CC-4EEF-9804-E0EA0CC7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CA6-23ED-4435-94B3-1F858CA9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2A8-7776-4240-A4E3-2ED3958C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37C-8D6C-40CA-96DA-EA0A0233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E38-ADA4-46CD-A7A5-BAE90583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90A-DD94-4133-A51F-EED07275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C05-1B58-45CF-8825-C3E654F6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4C1-5829-41E4-A107-AADB0DF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EE3-416C-4C8C-83E5-E2C6B98A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296-58F4-4B90-BC55-35F4BABD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8A84-25C9-4111-86F1-221D10AC4E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916360" y="278136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06T11:33:52Z</dcterms:modified>
  <cp:revision>800</cp:revision>
  <dc:subject/>
  <dc:title>Free PPT Backgrounds</dc:title>
</cp:coreProperties>
</file>